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346-128C-425A-BA95-C5E9F8816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609-5E7B-497C-A274-F83EEE69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1FB2-1C5D-4842-B548-1425DC4D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254D-146A-4E85-A2A1-23622CE04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A11-9695-4AFA-B978-FA48E602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593-FDF7-4144-A6D6-A9A46F823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11AF-4533-474F-A277-415FF9BEA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3989-9F66-41B8-928A-360EA763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A47-1809-474A-A5ED-1894A234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2FA-CB71-4EC2-8BEF-0CFBB6BFB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2C4-E4C3-4C9E-867B-848BFE629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841-44B0-4E78-B0DB-BF7BEAFF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5E3-3950-471A-B2A6-3CF80163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01A-8B2F-44AD-AC32-9E43B93A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6635-2CB2-4E7B-9168-ACFF50CCC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4E3-1F24-46E7-8BF9-63AA0A2CB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F87-6374-4AB0-9A64-3D728AA6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4473-D52E-4FE0-AFFE-BFEAC7518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05F-A55A-46C8-84B9-D6350D57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C692-01DD-4F50-B9A1-0134A41E2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968-9064-4E75-ABE6-2B1BB5C2D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BC5-CDB6-4430-8869-262D801A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B29F-3801-49BD-ADF0-25783F21C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522-E1E4-4BB3-98CD-FD5C89AC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E6D3-DFDD-4F66-96BB-B7882ABA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A191-FD5F-46CB-B9E0-4BFF48BD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E016-7C2D-469D-86DA-BA570C8F3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2B4-8E5D-4EEE-9EA4-C18F35F5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C29-45E7-4130-A283-E258212F4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715-04A1-4097-BD95-05CB5107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BB3-020E-4F36-A367-A99D53AA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896D-0302-48AE-A5CD-03C5D4B65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9A0-AB24-4833-830C-8EE5CE80B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029B-85A0-4D55-A7C0-381D13FFD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970-6777-4E48-B1CD-CE189CCDF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1C03-1B89-408D-BD53-44A8AC9E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42D-D081-4CC4-8781-E81EEAAF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itami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80"/>
          <p:cNvSpPr/>
          <p:nvPr/>
        </p:nvSpPr>
        <p:spPr>
          <a:xfrm>
            <a:off x="69840" y="2766960"/>
            <a:ext cx="5464080" cy="8431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 should be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ified to prevent an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1" name="AutoShape 80"/>
          <p:cNvSpPr/>
          <p:nvPr/>
        </p:nvSpPr>
        <p:spPr>
          <a:xfrm>
            <a:off x="0" y="2470320"/>
            <a:ext cx="5838840" cy="11556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-to feed formulas mu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used within _____ h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p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336600" y="5951520"/>
            <a:ext cx="4191120" cy="90648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arm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80"/>
          <p:cNvSpPr/>
          <p:nvPr/>
        </p:nvSpPr>
        <p:spPr>
          <a:xfrm>
            <a:off x="0" y="2535120"/>
            <a:ext cx="6192720" cy="11224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ngerous way to warm up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ow’s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pple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reast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8" name="AutoShape 80"/>
          <p:cNvSpPr/>
          <p:nvPr/>
        </p:nvSpPr>
        <p:spPr>
          <a:xfrm>
            <a:off x="0" y="2567160"/>
            <a:ext cx="4336920" cy="11142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ood fo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’s immu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9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7"/>
          <p:cNvSpPr/>
          <p:nvPr/>
        </p:nvSpPr>
        <p:spPr>
          <a:xfrm>
            <a:off x="4668840" y="5867280"/>
            <a:ext cx="4246560" cy="99072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533520" y="6095880"/>
            <a:ext cx="33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vum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4952880" y="502920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4952880" y="6095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ctopic pre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3" name="AutoShape 80"/>
          <p:cNvSpPr/>
          <p:nvPr/>
        </p:nvSpPr>
        <p:spPr>
          <a:xfrm>
            <a:off x="0" y="2519280"/>
            <a:ext cx="5694480" cy="118584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irl that is breast f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infancy h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risk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AutoShape 4"/>
          <p:cNvSpPr/>
          <p:nvPr/>
        </p:nvSpPr>
        <p:spPr>
          <a:xfrm>
            <a:off x="24444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rms and l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5"/>
          <p:cNvSpPr/>
          <p:nvPr/>
        </p:nvSpPr>
        <p:spPr>
          <a:xfrm>
            <a:off x="533520" y="609588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yes and 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aws and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eet and ank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feeding he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develop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k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l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3" name="AutoShape 80"/>
          <p:cNvSpPr/>
          <p:nvPr/>
        </p:nvSpPr>
        <p:spPr>
          <a:xfrm>
            <a:off x="69840" y="2766960"/>
            <a:ext cx="4421160" cy="922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 feeding he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evelop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 and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xyto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5"/>
          <p:cNvSpPr/>
          <p:nvPr/>
        </p:nvSpPr>
        <p:spPr>
          <a:xfrm>
            <a:off x="657360" y="5904000"/>
            <a:ext cx="35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ow Body    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icc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breast f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of this occurs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6"/>
          <p:cNvSpPr/>
          <p:nvPr/>
        </p:nvSpPr>
        <p:spPr>
          <a:xfrm>
            <a:off x="4952880" y="502920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reathing 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0" name="AutoShape 80"/>
          <p:cNvSpPr/>
          <p:nvPr/>
        </p:nvSpPr>
        <p:spPr>
          <a:xfrm>
            <a:off x="69840" y="2438280"/>
            <a:ext cx="4470480" cy="12430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that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feeding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i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2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0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8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7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45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4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2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0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lee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trolle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y’s who Breast f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s  less odor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ins in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ss miss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ump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oss of a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dvantage of br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ing when you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to 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ot 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w’s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reast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recommended u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infan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year 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6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7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8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6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4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3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1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0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8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5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6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3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4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>
            <a:hlinkClick r:id="" action="ppaction://hlinkshowjump?jump=nextslide"/>
          </p:cNvPr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kim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33520" y="609588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ortified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los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itch’s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1"/>
          <p:cNvSpPr/>
          <p:nvPr/>
        </p:nvSpPr>
        <p:spPr>
          <a:xfrm>
            <a:off x="304920" y="2220840"/>
            <a:ext cx="5159160" cy="1084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irst few days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, breast milk is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14840" y="4751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o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su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ras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e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80"/>
          <p:cNvSpPr/>
          <p:nvPr/>
        </p:nvSpPr>
        <p:spPr>
          <a:xfrm>
            <a:off x="69840" y="2327400"/>
            <a:ext cx="5899320" cy="12636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n infant does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feed because he/she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or ______ refl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96920" y="48481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bar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80"/>
          <p:cNvSpPr/>
          <p:nvPr/>
        </p:nvSpPr>
        <p:spPr>
          <a:xfrm>
            <a:off x="69840" y="2070000"/>
            <a:ext cx="5929200" cy="13795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’s milk, goat’s mil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_____ are the basis for m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Paula</cp:lastModifiedBy>
  <dcterms:modified xsi:type="dcterms:W3CDTF">2010-06-16T01:53:50Z</dcterms:modified>
  <cp:revision>36</cp:revision>
  <dc:subject/>
  <dc:title>No Slide Title</dc:title>
</cp:coreProperties>
</file>